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4E2-4EC6-4E44-A29A-8FB986D6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23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E75-FA27-414B-9E79-B0C52C76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640-72F5-4BBD-A0BC-70D4307B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2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2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2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768-ED05-4EC6-A197-E38BA270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4E9-10CE-4245-9127-68E1A193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D9C-2DA1-4B86-909E-0043D44D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943-1E0A-46EE-A308-C102A3DD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FEB-F294-405E-985F-B302B657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F99-3819-4AA2-8CCD-6A9173A3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C76-2392-4DEA-B82F-AAE87047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2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ACB-C58B-412A-9B1E-D990346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20F-6A63-4803-9320-73789B5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AF18-6D93-4CA9-8C36-4B1965230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niversity of Illinois at Urbana-Champaign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AI Alpha Experienc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581280"/>
            <a:ext cx="7467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Timothy W. Col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-cole3@uiuc.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Thomas G. Habing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abing@uiuc.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rainger Engineering Library Inform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3 January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dli.grainger.uiuc.edu/Publications/TWCole/OAIAlpha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valuative Comment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Metadata, Minimal Effort to Implement O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to 2 Weeks to Design DB &amp; Upload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to 2 Weeks to Implement OAI Provider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ic, Modular Technology for Sharing Meta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ble for Both Vertical &amp; Cross-Domain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on to Institutions (like libraries) that Have Multiplicity of Divers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Work to Do on Harvest Service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Powerful is Search Against LCD Metadata Sch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-Schema Mapping Issues Still Re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Linking &amp; Presentation Issues Re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6EA-C62D-45CA-BE15-018F1B4385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ossible Future Work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e System Archite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, Exploit MS XML Front-End to SQL Serv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s XML to Map HTTP-Submitted Query to SQL Que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QL Response is Mapped Automatically to XM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SL-T Used to Transform Output to OAI Schem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ISAPI Filter to Handle Mal-Formed Que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key OAI Provider Service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, Generic ASP with Template MS Access Dat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I Metadata Brokerage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, Broker Harvests Metadata From Specific Gro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ker Provider Optimizes for Simultaneous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rce Site Deals with Only Single Harve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AC3-1336-4D00-955A-5C776DF267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text &amp; Motiv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data Key to Several UIUC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I / D-Lib Test Su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Imaging &amp; Multimedia Technology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hives &amp; Special Collections Finding Aids (EA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b-Proust Archive (TE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on Smaller Scale, Domain-Specific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Body of Available Meta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ments Local Reference Resolutio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ing Reliance of Academic Libraries on Digital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1E1-FB4E-46B0-91CB-929D6E85A8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etadata Contributed (Alpha Phase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-LIB Scientific / Technical Journal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from AIP &amp; APS publications (~5,500 obje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data in XML (RDF, DC, Local Namespa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ed Access &amp; Authorization Fea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ed &amp; Updated Metadata Records During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Imaging and Media Technology Init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Cultural Heritage Community -- Digitized Images for Elementary Grades Curricula (~500 obje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data in Flat Database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ed Future Ad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ized Historical Aerial Photos of Illin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D Finding Aids for Manuscript Arch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DA8-D5A9-4CF7-8201-5F0811E37A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mputing Environ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69800"/>
            <a:ext cx="830592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Windows NT 4.0 Operating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Internet Information Server 4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e Server Pages (VBScript &amp; JScrip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SQL Server 7 and MS Access 9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Lib XML Data Uploaded Using Visual Basic &amp; MSXML Parser / DOM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ows 2000, IIS 5, SQL &amp; Access 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ML Extensions for MS SQL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746-A8EB-498E-B8C7-51821A7399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ssumptions / Groundrule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Object Member of 1 and Only 1 Set Hierar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w-Control Exclusively Using resumptionTok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ASCII Characters May Be Inclu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F-8 and &amp;#x0000; hexadecimal character re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Investigated During Alpha T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chanisms to Maintain Server-Side Stateful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irection Using HTTP H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us=‘Deleted’ (Attribute of recordTyp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Metadata Formats (e.g., DCQ or Formats Allowing Embedded Markup from XHTML Namespa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1E7-8B77-480F-B604-E97AC589F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8153640" cy="58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8C2-BC1C-402F-A663-15AC495E1AA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8153640" cy="58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893-07DF-4A47-8B28-BC19FF06CFC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ystem Architectur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data Maintained in Relational D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t table &amp; secondary tables (e.g., 1 each DC catego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tional tables for set descriptions &amp; supported sche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d Procedures Map DB Fields to Schema Ele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-couples Database Schema from Metadata Schema(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I Responses Built Dynam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ASP To Query DB &amp; Build Respon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ach OAI Verb becomes a Case Stat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XML Syntax &amp; Semantics Explicitly Coded in AS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HTTP Errors Constructed Using ASP Built-in Objec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uthentication &amp; Access Controls in global.as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Maintained Separate Log F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907-78E1-49EF-A46E-909E217C56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atabase Schem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429000" y="1523880"/>
            <a:ext cx="1981080" cy="1676160"/>
            <a:chOff x="3429000" y="1523880"/>
            <a:chExt cx="1981080" cy="1676160"/>
          </a:xfrm>
        </p:grpSpPr>
        <p:sp>
          <p:nvSpPr>
            <p:cNvPr id="57" name=""/>
            <p:cNvSpPr/>
            <p:nvPr/>
          </p:nvSpPr>
          <p:spPr>
            <a:xfrm>
              <a:off x="3429000" y="152388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4960" y="1599840"/>
              <a:ext cx="182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ou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date_stam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920" y="4114800"/>
            <a:ext cx="1981080" cy="1676160"/>
            <a:chOff x="304920" y="4114800"/>
            <a:chExt cx="1981080" cy="1676160"/>
          </a:xfrm>
        </p:grpSpPr>
        <p:sp>
          <p:nvSpPr>
            <p:cNvPr id="60" name=""/>
            <p:cNvSpPr/>
            <p:nvPr/>
          </p:nvSpPr>
          <p:spPr>
            <a:xfrm>
              <a:off x="304920" y="411480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4190760"/>
              <a:ext cx="182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_Creat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creat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705720" y="4114800"/>
            <a:ext cx="1981080" cy="1676160"/>
            <a:chOff x="6705720" y="4114800"/>
            <a:chExt cx="1981080" cy="1676160"/>
          </a:xfrm>
        </p:grpSpPr>
        <p:sp>
          <p:nvSpPr>
            <p:cNvPr id="63" name=""/>
            <p:cNvSpPr/>
            <p:nvPr/>
          </p:nvSpPr>
          <p:spPr>
            <a:xfrm>
              <a:off x="6705720" y="411480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81680" y="4190760"/>
              <a:ext cx="182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_Tit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H="1">
            <a:off x="2819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715000" y="5105520"/>
            <a:ext cx="762120" cy="152280"/>
            <a:chOff x="5715000" y="5105520"/>
            <a:chExt cx="762120" cy="152280"/>
          </a:xfrm>
        </p:grpSpPr>
        <p:sp>
          <p:nvSpPr>
            <p:cNvPr id="71" name=""/>
            <p:cNvSpPr/>
            <p:nvPr/>
          </p:nvSpPr>
          <p:spPr>
            <a:xfrm>
              <a:off x="6019920" y="5105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51055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840" y="5105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429000" y="4114800"/>
            <a:ext cx="1981080" cy="1676160"/>
            <a:chOff x="3429000" y="4114800"/>
            <a:chExt cx="1981080" cy="1676160"/>
          </a:xfrm>
        </p:grpSpPr>
        <p:sp>
          <p:nvSpPr>
            <p:cNvPr id="75" name=""/>
            <p:cNvSpPr/>
            <p:nvPr/>
          </p:nvSpPr>
          <p:spPr>
            <a:xfrm>
              <a:off x="3429000" y="4114800"/>
              <a:ext cx="1981080" cy="1676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04960" y="4190760"/>
              <a:ext cx="182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_Subje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object_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subje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sch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14600" y="5029200"/>
            <a:ext cx="762120" cy="152280"/>
            <a:chOff x="2514600" y="5029200"/>
            <a:chExt cx="762120" cy="152280"/>
          </a:xfrm>
        </p:grpSpPr>
        <p:sp>
          <p:nvSpPr>
            <p:cNvPr id="78" name=""/>
            <p:cNvSpPr/>
            <p:nvPr/>
          </p:nvSpPr>
          <p:spPr>
            <a:xfrm>
              <a:off x="2819520" y="5029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5029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440" y="5029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9051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20600" y="2209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I Metadata -- Univ. of Illinois at 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0AB-FC09-4598-98AB-31B54799D0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anuar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8:13:28Z</dcterms:created>
  <dc:creator>Grainger Library</dc:creator>
  <dc:description/>
  <dc:language>en-US</dc:language>
  <cp:lastModifiedBy>Administrator</cp:lastModifiedBy>
  <dcterms:modified xsi:type="dcterms:W3CDTF">2001-01-23T15:17:51Z</dcterms:modified>
  <cp:revision>27</cp:revision>
  <dc:subject/>
  <dc:title>University of Illinois at UC OAI Alpha Metadata Experiences</dc:title>
</cp:coreProperties>
</file>